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0F0D-C4BF-4CC9-AFBA-0E71B3BD7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64A0-C455-459B-A0F1-7931535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CC98-BF0F-49BE-9B40-2327E2A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FE1F-8B19-4112-A45F-03C056F64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F0E4-B299-45D9-AE6B-267347E9E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16058-B725-495B-BCE8-31544C2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A70CA-C1B9-4FD2-A403-6D5F0F0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5E036-4D54-48D0-A503-7F5683E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FB57-A13B-488D-BAAB-3940210E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F6E6-6118-4F6D-A101-B5E54B54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F237E-F303-4FF0-9B9B-0853DC2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5F15-B42E-4ACE-8B5A-7C4DFBC5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2DF4E-4F52-4D45-9F49-79AA718D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5464-B0BD-4663-B22D-7C7A93BB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8BB19-856F-4AC0-A41C-BE592E9D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27B94-3B85-44BA-8F89-6DB054B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5CF0-3D60-4C4E-AC2B-2B67C9EC6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159C-84F6-48AF-96C0-7B36A94F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1D91-A238-4A75-A149-4FDB444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1016-4DE9-41CE-8880-B83E62AE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3FAC-F276-49FB-B07B-D51B6597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3024-41CF-4FAE-BA06-D754F83D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23F3-FBAD-428C-ACC8-7F9091DE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5855-A087-4CA8-9F5D-7895FC15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58640B-A4F2-4A00-9790-12D905A3D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D8D3EF-1C3A-4D77-BDAB-111423A40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c0ea6"/>
                </a:solidFill>
                <a:latin typeface="Times New Roman"/>
                <a:ea typeface="Times New Roman"/>
              </a:rPr>
              <a:t>Компьютерная и игровая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c0ea6"/>
                </a:solidFill>
                <a:latin typeface="Times New Roman"/>
                <a:ea typeface="Times New Roman"/>
              </a:rPr>
              <a:t>зависимость у детей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286240" y="3429000"/>
            <a:ext cx="3538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7" descr="C:\Users\Аленушка\Desktop\картинки\788_19092.jpg"/>
          <p:cNvPicPr/>
          <p:nvPr/>
        </p:nvPicPr>
        <p:blipFill>
          <a:blip r:embed="rId1"/>
          <a:stretch/>
        </p:blipFill>
        <p:spPr>
          <a:xfrm>
            <a:off x="857160" y="2205000"/>
            <a:ext cx="712800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1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циально-педагог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400" y="85716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циально-педагогическая профилакт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 мер социального воспитания, направленных на создание оптимальной ситуации развития детей и подростков и способствующих проявлению различных видов его актив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социально-педагогической профилактики состоит в разработке комплекса предупредительных мер, связанных с устранением внешних причин, факторов и условий, вызывающих те или иные недостатки в развитии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Аленушка\Desktop\картинки\i.jpg"/>
          <p:cNvPicPr/>
          <p:nvPr/>
        </p:nvPicPr>
        <p:blipFill>
          <a:blip r:embed="rId1"/>
          <a:stretch/>
        </p:blipFill>
        <p:spPr>
          <a:xfrm>
            <a:off x="5500800" y="4411800"/>
            <a:ext cx="28573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428760" y="42876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ичная профилакт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ой зависимости направлена на улучшение психической адаптации учеников, их межличностных отношений, на ознакомление с признаками развития компьютерной зависимости и возможными ее последствиям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торичная профилакт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 на познании явления компьютерной зависимости, его причин, признаков, последствий, и направлена на предупреждение развития данного явления у дете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C:\Users\Аленушка\Desktop\картинки\serv_parents_sm2.jpg"/>
          <p:cNvPicPr/>
          <p:nvPr/>
        </p:nvPicPr>
        <p:blipFill>
          <a:blip r:embed="rId1"/>
          <a:stretch/>
        </p:blipFill>
        <p:spPr>
          <a:xfrm>
            <a:off x="2643120" y="3786120"/>
            <a:ext cx="3267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168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хнологии первичной профилактики компьютерной зависимости при работе с дет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143000"/>
          <a:ext cx="8425080" cy="5108400"/>
        </p:xfrm>
        <a:graphic>
          <a:graphicData uri="http://schemas.openxmlformats.org/drawingml/2006/table">
            <a:tbl>
              <a:tblPr/>
              <a:tblGrid>
                <a:gridCol w="2729160"/>
                <a:gridCol w="5695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ехнолог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довер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  служб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ддержк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ветительские программы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 программы для учащихся школ, лицеев и колледже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ная   работ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ое обучени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ое   трудоустройство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озные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религиозных чувств, осознание высшей духовной и моральной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500040" y="1071720"/>
            <a:ext cx="8072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се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явлении компьютерной зависим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углые стол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«Компьютерная зависимость: сущность и решения», «Проблемы компьютерной зависимости и игромании», «Страдания от кибермании» и т.д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е ча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Зависимость от компьютерных игр», «Компьютер в жизни школьника», «Подсевшие на игру» и т.д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нотерап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«Виртуальная агрессия», «На игре» и т.д.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2213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хнологии вторичной профилактики компьютерной зависим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одержимое 2"/>
          <p:cNvSpPr/>
          <p:nvPr/>
        </p:nvSpPr>
        <p:spPr>
          <a:xfrm>
            <a:off x="457200" y="1071720"/>
            <a:ext cx="19000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16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хнологии профилактики компьютерной зависимости при работе с род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   Образовательны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 программы по проблеме чрезмерного использования компьютера и Интерне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обучения педагогов, психологов, социальных работников и социальных педагогов, работников компьютерных клуб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о гигиенических нормах и правилах (суточная нагрузка, возрастные нормы) работы с компьютер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уроков компьютерной грамо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Содержимое 3"/>
          <p:cNvSpPr/>
          <p:nvPr/>
        </p:nvSpPr>
        <p:spPr>
          <a:xfrm>
            <a:off x="500040" y="500040"/>
            <a:ext cx="836460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   Коррекции семейных отношений: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армоничных взаимоотношений, способствующих полноценному воспитанию ребен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доверительных отношений между родителями и детьми, эмоциональной поддержки, психологической защит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ние родителей о стилях воспитания и их особенностях, коррекция стиля воспитан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их интересов всех членов семьи, традиций семьи, создание условий для совместной деятельности, досуг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643040" y="5716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c0ea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4" descr="C:\Users\Аленушка\Desktop\картинки\1ac8644e8829.jpg"/>
          <p:cNvPicPr/>
          <p:nvPr/>
        </p:nvPicPr>
        <p:blipFill>
          <a:blip r:embed="rId1"/>
          <a:stretch/>
        </p:blipFill>
        <p:spPr>
          <a:xfrm>
            <a:off x="2357280" y="1643040"/>
            <a:ext cx="44244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28760" y="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тисти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60360" y="900000"/>
            <a:ext cx="8459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4c0ea6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5% подрост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 за компьютером большую часть своего свободного времени, а именно более 2 часов в день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071960" y="2428920"/>
            <a:ext cx="4705200" cy="3908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60360" y="2160720"/>
            <a:ext cx="32400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манами становятся в возрасте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2-16 ле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о-игровая зависимость обнаруживается сейчас у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-14 % российских подростков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0" y="178596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игровой зависим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14200" y="2500200"/>
            <a:ext cx="750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зависимост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8" name="AutoShape 3"/>
          <p:cNvCxnSpPr/>
          <p:nvPr/>
        </p:nvCxnSpPr>
        <p:spPr>
          <a:xfrm flipH="1">
            <a:off x="1856520" y="3071880"/>
            <a:ext cx="764280" cy="6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AutoShape 4"/>
          <p:cNvCxnSpPr/>
          <p:nvPr/>
        </p:nvCxnSpPr>
        <p:spPr>
          <a:xfrm>
            <a:off x="5285880" y="3143160"/>
            <a:ext cx="764280" cy="6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Rectangle 5"/>
          <p:cNvSpPr/>
          <p:nvPr/>
        </p:nvSpPr>
        <p:spPr>
          <a:xfrm>
            <a:off x="785880" y="3786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истрастие к азартным игра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857840" y="3786120"/>
            <a:ext cx="181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омпьютерна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игроман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2" name="AutoShape 7"/>
          <p:cNvCxnSpPr/>
          <p:nvPr/>
        </p:nvCxnSpPr>
        <p:spPr>
          <a:xfrm>
            <a:off x="6714720" y="4857480"/>
            <a:ext cx="7642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3" name="AutoShape 8"/>
          <p:cNvCxnSpPr/>
          <p:nvPr/>
        </p:nvCxnSpPr>
        <p:spPr>
          <a:xfrm flipH="1">
            <a:off x="3999960" y="4857480"/>
            <a:ext cx="7642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4" name="Rectangle 9"/>
          <p:cNvSpPr/>
          <p:nvPr/>
        </p:nvSpPr>
        <p:spPr>
          <a:xfrm>
            <a:off x="3000240" y="5572080"/>
            <a:ext cx="2644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зависимост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6286320" y="5429160"/>
            <a:ext cx="22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х иг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28760" y="142920"/>
            <a:ext cx="80722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0ea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омания</a:t>
            </a:r>
            <a:r>
              <a:rPr b="0" lang="ru-RU" sz="1800" spc="-1" strike="noStrike">
                <a:solidFill>
                  <a:srgbClr val="4c0ea6"/>
                </a:solidFill>
                <a:latin typeface="Times New Roman"/>
                <a:ea typeface="Times New Roman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моциональное заболевание, характеризующееся психологической неконтролируемой зависимостью от игры, эмоциональными расстройствами и как следствие депрессивным состоянием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70000"/>
              </a:lnSpc>
              <a:buClr>
                <a:srgbClr val="4c0ea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16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ьютерная завис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120" y="85716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ьютерная зависимость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гическое пристрастие человека к работе или проведению времени за компьют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зависимость является одной из разновидностей аддиктивного поведения и характеризуется стремлением уйти от повседневности методом трансформации собственного эмоционально-психического настро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Users\Аленушка\Desktop\картинки\im_20110201110332_19450.jpg"/>
          <p:cNvPicPr/>
          <p:nvPr/>
        </p:nvPicPr>
        <p:blipFill>
          <a:blip r:embed="rId1"/>
          <a:stretch/>
        </p:blipFill>
        <p:spPr>
          <a:xfrm>
            <a:off x="1928880" y="4071960"/>
            <a:ext cx="4857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500040" y="1000080"/>
            <a:ext cx="809928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моментов, характеризующих игру в целом, характерны и для компьютерной игр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игра является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вободной деятельностью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торой человек обращается добровольно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666960" cy="3340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71680" y="3143160"/>
            <a:ext cx="341928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роисходит при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личии интерес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игра не является самостоятельной реальностью, играющий осознает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реальность происходящего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428760" y="357120"/>
            <a:ext cx="82216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висимость от компьютерных иг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1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нет - зависим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400" y="856800"/>
            <a:ext cx="84294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нет-зависи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net addiction, сетеголизм) - «нехимическая зависимость от пользования Интернетом, сопровождающаяся социальной дезадаптацией и психологическими изменениями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Интернет - завис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стие к виртуальному общению и виртуальным знакомств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перегрузка (навязчивый web-серфинг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берсексуальная зависим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язчивая финансовая потребность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зависи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Аленушка\Desktop\картинки\30002.gif"/>
          <p:cNvPicPr/>
          <p:nvPr/>
        </p:nvPicPr>
        <p:blipFill>
          <a:blip r:embed="rId1"/>
          <a:stretch/>
        </p:blipFill>
        <p:spPr>
          <a:xfrm>
            <a:off x="5286240" y="4286160"/>
            <a:ext cx="3300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16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чины компьютерной зависимости у детей среднего 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213920"/>
            <a:ext cx="8221680" cy="451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общения и взаимопонимания с родителями и сверстн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равильное воспита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характера: неуверенность в себе, неудовлетворенность, низкая самооценка, комплекс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других заболеван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и или шизофр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Аленушка\Desktop\картинки\fb2_2.jpg"/>
          <p:cNvPicPr/>
          <p:nvPr/>
        </p:nvPicPr>
        <p:blipFill>
          <a:blip r:embed="rId1"/>
          <a:stretch/>
        </p:blipFill>
        <p:spPr>
          <a:xfrm>
            <a:off x="4572000" y="3643200"/>
            <a:ext cx="39164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42920" y="142920"/>
            <a:ext cx="857232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данной проблемы для детей среднего школьного возраста вызвана тем, что  в этот период подростки не имеют устойчивой системы оценочных суждений, нравственных идеал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000760" y="1928880"/>
            <a:ext cx="3873240" cy="3943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28760" y="1720800"/>
            <a:ext cx="444168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ьютерные игры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им возможность уйти от реальности, реализовать свои желания, почувствовать себя значимым, сильным, вооруженным, испытать какие-то новые эмоци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виртуальном мир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 он-лайн играх) можно запросто поменять возраст, пол, имя, внешность и биографию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28760" y="928800"/>
            <a:ext cx="49435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личие собственного мир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ый нет доступа никому, кроме него самого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4c0ea6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тветствен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4c0ea6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стичность процессов и полное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страг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кружающего мир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равить любую ошибку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многократных попыток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стоятельно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нимать любые  реше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зависимости к чему они могут привест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09680" y="2286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енка привлекает в игре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580000" y="1314360"/>
            <a:ext cx="324000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нушка</dc:creator>
  <dc:description/>
  <dc:language>en-US</dc:language>
  <cp:lastModifiedBy>user</cp:lastModifiedBy>
  <dcterms:modified xsi:type="dcterms:W3CDTF">2015-12-16T01:42:25Z</dcterms:modified>
  <cp:revision>80</cp:revision>
  <dc:subject/>
  <dc:title>Игромания как педагогическая проблема</dc:title>
</cp:coreProperties>
</file>